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dt" idx="7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ftr" idx="8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 type="sldNum" idx="8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5537-354D-4CCF-8E91-BC3104907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0C7-B39C-4C54-B001-7A61062AB5D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D29-1299-4E59-8EE2-2B291B54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661-A77A-4975-802A-95916DF9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4DC02-3B32-4905-8DD7-6BFFF98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42C4F-6E78-44D1-A4FD-960FED52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DC50-A3A7-4DF4-A1F5-492B359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DA15-7FD1-4C91-991C-52B5EB34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31BC4-1117-46E3-B477-FB5862B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28E6-5C27-4705-9DE7-879F38B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FCB6-1B10-4297-ACAD-C5E47B5D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D5820-F1D7-43C1-BF44-CCF27EFD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3E51-4A22-4EE6-904F-88578B1C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8CFBB-5D01-4FA1-850D-1C446983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975-D381-4274-B47A-69A6FC60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9EF17-8D93-4787-9BFC-931D0D1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DB0E5-26DE-48D8-A090-8050268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0370F-D012-404D-A8A3-C2FBC8D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87A4-FEBC-483B-BBC1-67DFBB2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52FFE-0D1B-409D-8F64-C6FAB8F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4A111-92F3-4FDA-AA47-B80088B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93A95-C778-4841-9757-7E2497E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70263-5953-41E9-B6BD-262CBCB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A0A24-4324-42FB-B841-A5D94034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B9AA8-98CE-4430-AFE1-C553C425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838-ADEB-416B-90C8-5A8DB90C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F330D-5AFF-4F22-BFB5-4416CF7D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B4BB5-2101-4D4A-8A26-6223ADDA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E0599-38E3-4BDA-A227-FFD62EAF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EEDC9-3C71-4D3C-9249-29C5DE82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284E7-404C-4EF0-9FD4-6F32E4B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01733-8069-4E4F-A7F7-7E78DD75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516F1-CB6B-4E5A-B452-016B12E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5001-74AE-48A0-B851-7E4D5A6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6218-6777-4E6B-86D9-46D9E38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56A2E-2D27-4941-81D8-450681A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A34-C9C7-41F0-82BD-7E120EC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EA363-1BFB-4580-A70B-C0D6928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6EA7-EDF8-425E-BFC7-949A1957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93116-31AC-4A95-8990-EC151B54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55C3B-D5E7-4CD7-B09F-6AC83DE2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A859F-AAE1-4548-B201-326A204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21CCC-7FC4-49AB-B529-91E8785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BC8DF-A46A-4663-B836-96B5E86E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CC164-604F-470D-980B-4ED80545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9EDAB-6066-4705-BBE6-18D86DD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AD529-DD36-4160-A7F8-FDA42CA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E55-2CBF-4D00-8C98-67EFB5D5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FFCCB-B649-4C07-A41C-D2A1108D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3A189-0C0A-45B3-8384-D5A96C7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44B3C-3B7A-4632-A738-F9D07E0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FD391-0807-477B-8AE0-71F28DD4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DE470-7B02-4B0B-BF0A-37709513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708B3-424B-4E44-840D-E1CF4C9A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E124E-6078-4307-AD11-7BC22851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C9281-A3A9-4734-9583-B1F3DABF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AADEC-EDC5-4837-8B48-043A072C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5D876-1929-40D4-A54F-BA4389D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CE19-D4D0-4C5C-B948-6B5BE588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67E04-8B38-4E2D-9F61-003F0FCE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50953-50A8-4FC0-91FB-8670208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C46DC-43D5-4B77-8EE7-D30056F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43699-4FB3-4CB0-8268-C519F02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1FFF5-62E7-4253-A427-3B1E3D7B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95EA9-87C0-470E-A007-F6A76972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11339-257A-4881-B93A-19634C8B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1FE1B-A07A-4BF7-8F59-4CB81E90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2A3F6-9CBA-4076-A80B-435A0881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4B943-0872-4C1B-B5F5-CAE66D4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74C5-0B72-44EA-AF2B-B4B940AF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1D012-058A-433A-9131-5632BA4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7173E-96A3-4675-848D-06CE800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28679-1ABB-4C13-AC42-B5DD0B87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B5F17-0B49-4508-ADC5-576864E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85521-3546-47D1-B7C2-74DFF11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515CF-E3EE-42DD-8800-9A523E2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F6853-4325-4A0A-BB50-B668B5D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4991F-9B15-4A89-80BD-8F92EE23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7E8B2-107C-47DC-8184-B0629058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727F1-0D59-40BA-851E-130F4DE7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749D-4DB3-4C08-B39A-1F159A9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78327-4D97-46BC-80CF-747D81F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13827-D2A8-4DF4-BF48-45E469C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A2D8C-F4CA-4F30-B9EF-2B68D95F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3E067-3D20-43B9-9CED-656AD86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8B855-AAB9-4AEE-9EEB-BE6BA047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4F92F-775A-4C7A-9F3A-362132A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5A93A-D7DC-4166-B360-F4A3892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11F91-84C4-492D-BD84-EA77AFB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2F5EA-4E94-4B9A-8E1F-2AA9B8A7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5F152-078E-4AF9-84AE-3347753C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CC2-071B-43B0-8032-2E4EF1F3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8CCB1-A970-4E92-9FA0-D0E701DF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36CC61-9A49-4AD2-9713-C2B714C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80B245-F5EB-4C8C-A95A-31724998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5E3647-ACE2-4FEB-94CF-7A6E9AF6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9AA193-FE42-4F0A-829B-B1B9D20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CD327B-F3F1-4E33-92E9-79798453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300BEA-AD8B-49AA-AE49-CF62BC55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64BCB6-F490-4BF5-B6BB-B77CDEC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7954DF-F8DC-47FE-A64F-1D5D7879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99328F-8566-4724-B860-B339366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6DB-D250-461D-9FC8-9EE8AD8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535B2A-A679-4EA8-A9EE-466DA8A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E81392-FBC1-457F-951B-BEA0CCB7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040073-9DEF-4E39-93D9-EE6AA001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AF5F1-771C-4AA7-A8BB-BD60CF5C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6628A-5855-49C8-915D-97CC9DC8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6E2DF-A6CD-4B47-85E2-A5B8E04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FBF4E-123C-4E21-BD89-F63E81D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EBAAE-64BA-4268-BF09-429F204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188FA-9029-4420-8F51-224146A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83603-8D3E-44A0-AEF0-588C5B7C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EDE-455F-4DFA-8BCA-2987AA3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7D3-B05E-4927-8F09-BC9F8305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87584-1FAF-4734-A79F-07594A7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BCCB0-64B5-498B-B805-EFA5602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9AF6A-9640-4CA6-957E-CBC94D4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99B6C-B4B9-4722-B40B-2E28BE51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12196-8D59-4093-8C9C-B46401FA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7B93E-F7DA-462E-AC23-5B9D0364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BFC77-3843-4D83-9854-0F23F33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19C36-DF4D-4DAF-9251-57EE372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5073D-3866-4D2D-940B-BDBFF647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2EB8E-AE90-4144-8C69-60E7CBF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ED40-760F-43FA-8ABB-56F2D7CC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65BC0-F148-426D-9C7E-9913EB12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5297A6-A90A-483F-9C8A-2DCED41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346D2-F3E4-4A0F-BFE8-4011538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3C25E-DDF0-47EA-A74C-D997DBD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503B2-D99B-496D-93F7-83EC05B7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6ECCF-4122-4EC6-B3FA-8B135194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2870E-9A92-4C89-8603-1282D651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39E45-5DA3-4DD4-ABC6-0C6D288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02842-1071-42DF-8C5D-1ECDB6E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24905-5844-4473-AB35-EF323964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6554-214E-4901-A2CB-375E901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C8A41-6138-4E40-839A-193717A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F684D-516D-40BA-966E-6CFDE9D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9C8D6-385A-4BE9-AC6A-5B8E0590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9EC99-2BCC-43E8-98EC-37D8D95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A8927-5C90-4624-854A-882631E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46B3D-1934-41AB-9427-87BAC1AA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538C1-59FB-4FF4-9B28-C0FDAC0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3CFA8F-96E7-419D-A577-30CDD221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19415-5524-4766-A0BC-DF4AB414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41D83-6444-45D2-92B0-01EFDF89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ECD4-BA8E-4011-AFAE-AD23E998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D7FB8-37A5-4A52-81DC-7B94F5E0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F4BF2-FA6C-4D70-A598-4C928AA4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BC125-47C2-4310-8379-12DD7E8D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A78B5-27F9-499A-BBCB-29C1DA0A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F7787-31B1-4888-8C6D-E682815B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D0300-1C78-465F-81C4-DE25049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F7A2D-F4B6-4074-AF49-DF8B035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B0415-A823-4F88-8156-239B4BA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B7BC0-92D3-40EE-A4E2-B726792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1EDC5-CC50-409F-8522-746C5A4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A7B6-8F6F-4334-A212-8801BE9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91F29-FC7A-4369-BABE-0A140DC5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ED04A-AAF7-4D3B-B566-29434104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13080-853E-4712-9E69-2D613FC9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7655FB-6330-4922-A59A-EE65CFC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651E68-1CFD-4092-8AA5-A493C76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B6802-7763-41F5-BDDA-F0AB146E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06D07B-FF77-4025-A7CB-7659DCA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6E9D1-8CC9-45D7-A5A8-B20990E5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6F952-EFDD-4E46-9456-81976A6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ABA1A-461F-4406-A499-ED16F88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5593-2270-4655-B3AC-F5632410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17817-FCD1-4CCF-829C-95C5649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53BEA-C149-4B04-ABE3-AF281DD7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272F4-04BC-4353-BF4E-8C89C2C9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182F7-84E0-4FDD-921D-CB504ED7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1BF55C-9736-45FF-9E5D-3BB108BB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9C9BFE-D97B-4C04-B9D0-CC40928D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2499E-CEBD-4A2E-9232-07BBE40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E87660-53C5-47FA-9010-F0E2E60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7D875A-3A61-4EB1-AC1B-DCD74F51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69560-FC07-4093-9230-FDDA1DF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A6AF-B868-4D56-A286-4C0400A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348967-7225-470E-B418-492255EC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1B8AF-F22E-4A88-8137-3AF6A64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13BA2-639B-4172-BA8C-E545534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8AC5B-DBF3-45D0-8CFF-F8B0C86A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C3D73-E3FE-4B3D-AFCF-6FBB6DE2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64476-9F69-4275-8B37-97B3D705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57AA7D-3D57-419D-94A3-74B2131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30DF3-89D2-49CC-B5DA-5AFDCF0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F9E87-0936-4CAF-8504-A97F078C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54C00A-4801-4EA0-912E-79073E4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40124-0FAA-45D5-975E-4399084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9FD36-6388-40C9-B7EA-BA49A86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D2964-8368-4768-A15E-50C5CA2F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23E93C-6BE4-408E-809A-B563926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1DC934-7783-4ABE-9CFD-384A543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91C95D-EE2A-48EF-9587-D4BC66C9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F1ED62-A760-4687-8181-E0DF6689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CC8CAA-608F-4ED1-8B1F-0AA00C89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7437E6-1F42-423F-8F9F-E816C204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85916B-3835-4C44-BC73-11AAF01C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4258A-3ADE-4DCD-9BC3-8A33B25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B455-7816-4DFB-9E24-2E69F857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919E7B-BA44-4733-AEED-AFD3E3E9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4EDA6-E5B9-478A-BBED-949A5184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16E55-299A-430A-BBCD-162F8039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8904FE-6214-4855-990B-E386D9B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D807C3-D44F-43A7-8600-B70EC51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22202-9F76-416D-A231-44B325A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FA01BD-C620-448B-BC99-622AD664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5B44AA-02A3-4577-A5A1-B5DE78A0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8E8DE6-CA52-466C-9235-EECF5F43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0F154D-142D-4B85-9D73-3D3D05D4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57A2-DAF3-4527-8DF8-1E0264A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F739FD-A154-4FD6-A3D4-A406B4E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625E8E-CAC1-4C13-928A-5A0765E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5A5F47-4418-4FFA-9695-1BC3F53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4BEF6B-24A8-428E-B8D8-890017E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1807FC-D1C7-4719-BE19-7D489A5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D45659-95D6-4CFA-B964-8E74BFD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BAD799-4F84-4620-8950-8023F9EB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7CF6C3-138F-4C46-8C3E-614AC0C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0953A2-9298-4E59-9AFF-50B8AB6D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484525-A834-432E-9A74-B2CFC6EE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CE8-15E0-4834-8903-E5ABFC5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966F-8DFC-419C-B39F-41C0A7A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D50574-9F3E-441E-9F4C-2C3563EE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CE2DFD-DE8B-4CA8-932B-92AB8918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CB0D2D-CDBF-4BB4-BA18-D7638789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307F0-B02C-436B-8AAC-7827DF81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B1E5B-78F9-4293-90EE-9AD192E7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A1E3C0-587A-46B8-97C8-92C8D7D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BFF1B2-AB3D-46E1-A4AF-4FCC74F7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BDEDB-DFB9-4FBF-AC42-C0EF799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B9D268-2EB2-4768-BBC2-B8AA6F2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9BDD43-02D9-4032-9BCD-5DB3D3A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F203-C94B-46C6-9238-D75581E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065794-97F3-4404-82F6-AEE9B4C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83E32-7EB2-422C-B82C-800D121F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9A59FA-9C19-41E4-9176-18B6FFE7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D3C2-5A7C-4CF3-80F4-E3CD144C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D3B4-CDE2-42D8-8753-59F2E03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8F91-BB45-429F-8279-DF34748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F2B3-7563-4BEB-A4AE-99494A77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1A45-9A94-42CA-8D52-7ACC0672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4679-7D85-4F46-8DB7-33C5EBB8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C96F9-A437-4E1B-8BF1-E70D8BC0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0704-003C-4421-8A81-0247F06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E37-0211-4B7D-90D6-787AE5B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BA27-13E3-46B7-9AD7-0FEC2A0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E7A8-5431-4611-AE14-F2F2F00D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6882-A8B4-45B3-9770-EE2832B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ED7F-AF15-4344-9E7C-1855C75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F882-1E78-4F74-9795-19394DE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8086-8E91-4508-91D8-0AD6C47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1331-FD75-4964-9CA1-1EAC288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4D24-7577-425B-86C4-0C56A6E7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A5CD-C12C-401D-853A-4381A27B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F87C3-2416-4BDF-A538-EAF994A6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946-7B66-4E64-BC59-D8C0ADE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A35C-632B-4EF0-AC62-56238C8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279A-5F55-4460-82F4-E0C4D237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9B94-CD99-4E08-9D05-9F69ACDC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D46FA-0B27-43FB-BB6C-61AE3161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5E2B-C1DC-4626-988B-549706E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294E8-CDE4-4CDD-A191-1DED174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7437-940E-468A-9200-EA2D24D5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D67D-E462-4B1F-80B0-97046469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BB3C-E194-4EFA-AD21-592DC71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AFFA-937D-45ED-90D3-DC97B316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F42-64DC-4E22-B2AC-AD5CC82B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6C00-616A-4D62-88DD-15869276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3ED0-48A5-4861-B7CE-5BBA6608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2005-0D7F-4E6E-A4C7-5BC0787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FFD3-C137-4EA7-A273-838116C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45C2-6949-4602-9F0A-17B48F4D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37BF-8576-43BE-90E8-97A5988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9BBB-FF78-4178-8392-0503989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9823-BF9C-4FA8-9E01-F19625A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CE0F6-FB95-4D05-9A71-B04C4A83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10A52-CC93-4DCA-853D-C5B031F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FA4-70B2-4D41-95BC-A662ECE2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DEB21-E857-4DB7-A59A-6E6E7D98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9A50-FAE7-48A7-A8B3-730254A8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D2EF-EDEE-4D24-A737-44FA8399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76160-2577-4FAD-AD41-70235582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D295-87D0-40B7-8A50-4D981A7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77DD-D9BF-4C14-9A98-042B0642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38C2-1A93-4E5D-B2B5-7333E4DD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9F142-A767-48FE-A01C-1D03274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8E9A1-1479-4A44-8145-6FEDFF97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280C-A3D1-444A-9781-EB5A276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332-0A40-42B6-A846-994CB2E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9878-3518-4BDF-9B8B-02B6BFFF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3888-40DE-44E8-95AC-6B6E517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403C-2BC2-4EF3-9CFA-9A65037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22A12-3453-4DB9-B2C4-867CDE0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07D5-C84E-49D4-ACCE-8F02F5D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5E00-3903-4025-9F2D-869EE84F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2F233-C91D-4B56-BC60-03C85726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86EDD-A369-4A78-999C-1C324A2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D33E-1F48-4107-9A46-57A8C20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2AB2-B964-4608-9C4D-9FC9F543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7D7-70C2-4263-9326-1DD85B7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C51C7-3633-4B41-8544-5CB4EBB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1A5F8-08AE-4E24-8836-090E9E1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2D435-0655-4574-AFB5-74D3262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CFD9B-2465-45A9-AC71-8C41099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44F9-88C9-453C-A5BE-53EF77E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3E03-0DCB-4CCB-8E2F-7A2A93E0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61194-53B5-4192-99A7-4CBC2D9A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98C1E-9933-417B-B3E7-11776C0A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9D52A-530D-4DDE-9597-6839053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03B6B-0E7E-4575-890D-B8463FA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EC42-E295-4119-B5AE-9682CADE0B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56C-5C60-494B-A01B-9CAF898C87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28D2-413A-415E-8919-87F04609CA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B4B-3937-4C44-8978-3797FC2C12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736E-2B94-4A78-9D23-920976F75D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8F0-A9C2-42FA-85D9-2BA9E033EC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BC03-F56D-4EB7-A546-0B2B5B4EDD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7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8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9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4E20-3BE3-4F76-BBD7-6F5D14B77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451F-0713-475A-877C-CED54C655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D9A-532F-4782-A201-BAE0345896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078-1A4D-4D8C-8CE6-AFA70375C8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97A-9C7D-433B-B971-5A59BE620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FE0-A0E8-4685-9E0E-BE71D265B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BF34-52D8-46AB-9F9D-F622465C8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5E1B-5005-4247-B30B-ABB035331D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E90-3C16-45F3-A2AE-736EE7B7C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7D88-F810-4DF4-A843-FFB084B23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030-24B8-4B89-B59E-D22AFFEA4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E64-F170-4506-8FA9-679AC3648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22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23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24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5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6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7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8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30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3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36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BF16-67E3-4632-9959-AEE811ED8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6D23-BE80-41B4-8E11-D2F1039925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6C1-7997-4362-B28C-A1462854B9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2450-7ACA-4411-B77C-1A91C063C5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F805-7AD6-4043-A247-30605317C5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1D99-ABB2-4865-8F69-20D0CD22D2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816-572B-4DB8-B9F8-F82AB168AE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6600"/>
                </a:solidFill>
                <a:latin typeface="Impact"/>
              </a:rPr>
              <a:t>Amatöörraadio digis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77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Sissejuhatus digitaalsete tööliikide kasutamiseks amatöör-raadiosi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Koostas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art Rah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ES2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  </a:t>
            </a: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SST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Rectangle 4"/>
          <p:cNvSpPr/>
          <p:nvPr/>
        </p:nvSpPr>
        <p:spPr>
          <a:xfrm>
            <a:off x="533520" y="12193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SSTV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t-EE" sz="2000" spc="-1" strike="noStrike">
                <a:solidFill>
                  <a:srgbClr val="ffffff"/>
                </a:solidFill>
                <a:latin typeface="Times New Roman"/>
              </a:rPr>
              <a:t>Slow Scan television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. Pilte edastatakse ridahaaval. 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Kasutab analoog sagedusmodulatsiooni, kus heleduse väärtus pildil vastab erinevale heli toonile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On palju alamliike, populaarseim ehk Martin M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uni 3 k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üsna populaarne tööliik, väheseid graafilise tulemusega tööliik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uur ribalaius, tundlikkus müradele ja signaali-kõikumistele. Kuna etteantud sagedusala on kitsas, siis tihti segunevad kasutajate signaali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Näide SSTV-ga edastatud pildi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9" name="Picture 2" descr=""/>
          <p:cNvPicPr/>
          <p:nvPr/>
        </p:nvPicPr>
        <p:blipFill>
          <a:blip r:embed="rId1"/>
          <a:stretch/>
        </p:blipFill>
        <p:spPr>
          <a:xfrm>
            <a:off x="5334120" y="5087880"/>
            <a:ext cx="1981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Vajaminev seadmesti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Arvut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Piisavalt protsessori jõudlust (eriti JT65 ja JT9 puhul), näiteks Intel Core 2 Duo 2.x GH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Hea dünaamikaga helika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Serial port (COM) olemasolu või USB-Serial üleminek (soovitavalt FTDI või CP2102 chips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Vajaminev seadmesti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2. Vahelii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Uuematel transiiveritel vaid USB kaab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Vajalikud sisendid-väljundid: Audio In, Audio Out, PTT. Soovitavalt ka FSK, CW, C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Üks serial port kõike ei võimal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Eelistatud on liidesed, mis isoleerivad arvuti jaam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Vajaminev seadmesti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3. Raadioja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Stabiilne saged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Vastupidavus pikkadele saadete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Lisaseadmete sisendid-väljundid (AC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USB port, CAT lii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ikrofoni keelamine digimode puhu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FSK tugi RTTY ja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Jälgige ALC nivood!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Vajaminev seadmesti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4. Varjestus ja maand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Vältida maandusri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Varjestatud heli- ja andmesidekaabl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Ferriitidega parasiitvoolude takistamine kaablivarj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aandus ühes punkt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Korralik antenn, kust RF tagasi ei t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Korralik „mitteurisev“ ja „mittemürisev“ toiteplok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Tarkvar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Paketi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Hamradio deluxe v5.x (sisaldab DM78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ix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Fldig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Eraldiseisva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MT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MSSTV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WSJT, WSJT-X, JT65-H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Tarkvar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acrode tähtsu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Füüsiliselt ei pruugi jõuda trükkida klaviatuuril piisavalt kiirest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Paljude digisidede läbiviimisel on trükkimine kurnav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Sisestage macrodesse „viisakalt minimaalne“ vajalik sõnu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Macrod erinevateks sidestiilideks nagu </a:t>
            </a:r>
            <a:r>
              <a:rPr b="0" i="1" lang="et-EE" sz="3200" spc="-1" strike="noStrike">
                <a:solidFill>
                  <a:srgbClr val="ffff66"/>
                </a:solidFill>
                <a:latin typeface="Times New Roman"/>
              </a:rPr>
              <a:t>pile-up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0" i="1" lang="et-EE" sz="3200" spc="-1" strike="noStrike">
                <a:solidFill>
                  <a:srgbClr val="ffff66"/>
                </a:solidFill>
                <a:latin typeface="Times New Roman"/>
              </a:rPr>
              <a:t>casual chat 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j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II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1" lang="et-EE" sz="4000" spc="-1" strike="noStrike">
                <a:solidFill>
                  <a:srgbClr val="ff6600"/>
                </a:solidFill>
                <a:latin typeface="Times New Roman"/>
              </a:rPr>
              <a:t>Tarkvar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Ühendus logiprogrammideg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Automaatne QSO andmete jõudmine logisse teeb elu lihtsamaks ja vähendab logist välja jäävate QSO-de hulk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Otse logiprogrammi tugi või vahe-programmi kaud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Logriprogrammis digimode tööliik õigek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ff6600"/>
                </a:solidFill>
                <a:latin typeface="Times New Roman"/>
              </a:rPr>
              <a:t>VI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et-EE" sz="4400" spc="-1" strike="noStrike">
                <a:solidFill>
                  <a:srgbClr val="ff6600"/>
                </a:solidFill>
                <a:latin typeface="Times New Roman"/>
              </a:rPr>
              <a:t>Kokkuvõ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õned digimodede sagedused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 28.120 M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z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8.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076,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8.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078, 28.0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12m - 24.917 MHz, 24.920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15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 21.070 M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z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, 21.076, 21.078, 21.0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17m - 18.100 MHz, 18.102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 14.07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, 14.076, 14.078, 14.080, 14.10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30m - 10.138 MHz, 10.14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 7.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M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z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, 7.076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 3.583 M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z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, 3.576 MHz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ff6600"/>
                </a:solidFill>
                <a:latin typeface="Times New Roman"/>
              </a:rPr>
              <a:t>VI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et-EE" sz="4400" spc="-1" strike="noStrike">
                <a:solidFill>
                  <a:srgbClr val="ff6600"/>
                </a:solidFill>
                <a:latin typeface="Times New Roman"/>
              </a:rPr>
              <a:t>Kokkuvõ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Mida head on digimodedes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Vaikne“ tööliik, ei aja peret ü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Tagasihoidlikumad nõudmised tehnik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Erinevad tööliigid vastavalt levik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Kuigi tundub masinlik, siis lihtsalt „599“ andmine on samamoodi ja elektronvõti on samavõrd „saatanast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66"/>
                </a:solidFill>
                <a:latin typeface="Times New Roman"/>
              </a:rPr>
              <a:t>Võib arvata, et inimest pole enam vaja aga praktika näitab, et on kü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6600"/>
                </a:solidFill>
                <a:latin typeface="Impact"/>
              </a:rPr>
              <a:t>Sisuko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.  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  Erinevad digitaalsed tööliig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I.   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Vajaminev seadmesti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II.  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Tarkva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.  </a:t>
            </a:r>
            <a:r>
              <a:rPr b="0" lang="et-EE" sz="3200" spc="-1" strike="noStrike">
                <a:solidFill>
                  <a:srgbClr val="ffff66"/>
                </a:solidFill>
                <a:latin typeface="Times New Roman"/>
              </a:rPr>
              <a:t>Kokkuvõte ja dem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II. </a:t>
            </a:r>
            <a:r>
              <a:rPr b="1" lang="et-EE" sz="4400" spc="-1" strike="noStrike">
                <a:solidFill>
                  <a:srgbClr val="ff9900"/>
                </a:solidFill>
                <a:latin typeface="Times New Roman"/>
              </a:rPr>
              <a:t>Ülevaade erinevatest digiside tööliikid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  RT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BP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F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llschreib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Oliv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JT65, JT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SST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1.  RTTY (Radioteletyp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Populaarne ja standardne tööliik, üsna hea „läbivusega“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uud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puudub võimalus saadetud teksti parandada, on palju populaarsust kaotanud PSK31-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3" name="Picture 4" descr="pic_rtty"/>
          <p:cNvPicPr/>
          <p:nvPr/>
        </p:nvPicPr>
        <p:blipFill>
          <a:blip r:embed="rId1"/>
          <a:stretch/>
        </p:blipFill>
        <p:spPr>
          <a:xfrm>
            <a:off x="6553080" y="1295280"/>
            <a:ext cx="2138400" cy="2210040"/>
          </a:xfrm>
          <a:prstGeom prst="rect">
            <a:avLst/>
          </a:prstGeom>
          <a:ln w="0">
            <a:noFill/>
          </a:ln>
        </p:spPr>
      </p:pic>
      <p:sp>
        <p:nvSpPr>
          <p:cNvPr id="1164" name="Rectangle 5"/>
          <p:cNvSpPr/>
          <p:nvPr/>
        </p:nvSpPr>
        <p:spPr>
          <a:xfrm>
            <a:off x="304920" y="1295280"/>
            <a:ext cx="5715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TTY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„vana hea“ teletai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aadetak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 to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näitek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125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k</a:t>
            </a:r>
            <a:r>
              <a:rPr b="0" i="1" lang="et-EE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“1”)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j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295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Hz „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pace</a:t>
            </a:r>
            <a:r>
              <a:rPr b="0" i="1" lang="et-EE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“0”) to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 lai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170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Kiirus umbes 45 b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7008840" y="35053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TTY </a:t>
            </a:r>
            <a:r>
              <a:rPr b="1" lang="et-EE" sz="1400" spc="-1" strike="noStrike">
                <a:solidFill>
                  <a:srgbClr val="ffffff"/>
                </a:solidFill>
                <a:latin typeface="Times New Roman"/>
              </a:rPr>
              <a:t>jäl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.  </a:t>
            </a:r>
            <a:r>
              <a:rPr b="1" lang="et-EE" sz="4400" spc="-1" strike="noStrike">
                <a:solidFill>
                  <a:srgbClr val="ff9900"/>
                </a:solidFill>
                <a:latin typeface="Times New Roman"/>
              </a:rPr>
              <a:t>BP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K31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(BPSK31) tähendab </a:t>
            </a:r>
            <a:r>
              <a:rPr b="0" i="1" lang="et-EE" sz="2000" spc="-1" strike="noStrike">
                <a:solidFill>
                  <a:srgbClr val="ffffff"/>
                </a:solidFill>
                <a:latin typeface="Times New Roman"/>
              </a:rPr>
              <a:t>„(Binary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hase Shift Keying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31 on kiirus aga ka 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asutusel on veel PSK63 ja PSK125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PSK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 veaparandusega versio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31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, 63, 125 H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380880" y="43434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õige populaarsem digitaalne tööliik lühilaine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itsas riba võimaldab paljudel jaamadel korraga ühes sagedusvahemikus tööta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obiv halva levi ja väikese võimsuse puhu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BPSK31 on aeglane töölii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Võistlused ei ole nii populaarsed kui RTTY puhu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9" name="Picture 6" descr="pic_psk31"/>
          <p:cNvPicPr/>
          <p:nvPr/>
        </p:nvPicPr>
        <p:blipFill>
          <a:blip r:embed="rId1"/>
          <a:stretch/>
        </p:blipFill>
        <p:spPr>
          <a:xfrm>
            <a:off x="6400800" y="1231920"/>
            <a:ext cx="2209680" cy="212076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7"/>
          <p:cNvSpPr/>
          <p:nvPr/>
        </p:nvSpPr>
        <p:spPr>
          <a:xfrm>
            <a:off x="6860880" y="335268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SK31 </a:t>
            </a:r>
            <a:r>
              <a:rPr b="1" lang="et-EE" sz="1400" spc="-1" strike="noStrike">
                <a:solidFill>
                  <a:srgbClr val="ffffff"/>
                </a:solidFill>
                <a:latin typeface="Times New Roman"/>
              </a:rPr>
              <a:t>Jäl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  MFS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44953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Hea kaugside ja QRP töölii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Väga immuunne müradel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Võimalikud sünkroniseerimisraskused tarkvaras. Puudub korralikum veaparandu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533520" y="1295280"/>
            <a:ext cx="5333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FSK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 sarnane RTTY-ga aga kahe tooni asemel kasutatakse 16 kuni 32 tooni. Hakati kommertslikult kasutama juhtudel, kui RTTY signaal polnud enam vastuvõtav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300 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õlab nagu hullumeelne klaverimäng ;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4" name="Picture 5" descr="pic_mfsk16"/>
          <p:cNvPicPr/>
          <p:nvPr/>
        </p:nvPicPr>
        <p:blipFill>
          <a:blip r:embed="rId1"/>
          <a:stretch/>
        </p:blipFill>
        <p:spPr>
          <a:xfrm>
            <a:off x="6248520" y="1371600"/>
            <a:ext cx="2192040" cy="2209680"/>
          </a:xfrm>
          <a:prstGeom prst="rect">
            <a:avLst/>
          </a:prstGeom>
          <a:ln w="0">
            <a:noFill/>
          </a:ln>
        </p:spPr>
      </p:pic>
      <p:sp>
        <p:nvSpPr>
          <p:cNvPr id="1175" name="Text Box 6"/>
          <p:cNvSpPr/>
          <p:nvPr/>
        </p:nvSpPr>
        <p:spPr>
          <a:xfrm>
            <a:off x="6786000" y="358128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FSK</a:t>
            </a:r>
            <a:r>
              <a:rPr b="1" lang="et-EE" sz="1400" spc="-1" strike="noStrike">
                <a:solidFill>
                  <a:srgbClr val="ffffff"/>
                </a:solidFill>
                <a:latin typeface="Times New Roman"/>
              </a:rPr>
              <a:t> jäl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Hellschrei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5943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llschreiber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 teksti edastamine digitaalselt visuaalsel kujul. Vastuvõtul kuvatakse tekstist pilt, mitte dekodeeritud tekst. Populaarsein alaliik Feld He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1 hz - 245 h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Teksti kujutis kuvatakse topelt ja vähendatakse sellega segamiste mõjusid. Kitsas riba. Huvitav tööliik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Mitte eriti kiire tööliik ja kasutajate aktiivsus väheneb järjes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Näide vastuvõetud tekstist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8" name="Picture 6" descr="pic_hell"/>
          <p:cNvPicPr/>
          <p:nvPr/>
        </p:nvPicPr>
        <p:blipFill>
          <a:blip r:embed="rId1"/>
          <a:srcRect l="12417" t="0" r="0" b="0"/>
          <a:stretch/>
        </p:blipFill>
        <p:spPr>
          <a:xfrm>
            <a:off x="6400800" y="1219320"/>
            <a:ext cx="2222640" cy="215100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8"/>
          <p:cNvSpPr/>
          <p:nvPr/>
        </p:nvSpPr>
        <p:spPr>
          <a:xfrm>
            <a:off x="6630840" y="335268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ellschreiber </a:t>
            </a:r>
            <a:r>
              <a:rPr b="1" lang="et-EE" sz="1400" spc="-1" strike="noStrike">
                <a:solidFill>
                  <a:srgbClr val="ffffff"/>
                </a:solidFill>
                <a:latin typeface="Times New Roman"/>
              </a:rPr>
              <a:t>jäl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0" name="Picture 2" descr=""/>
          <p:cNvPicPr/>
          <p:nvPr/>
        </p:nvPicPr>
        <p:blipFill>
          <a:blip r:embed="rId2"/>
          <a:stretch/>
        </p:blipFill>
        <p:spPr>
          <a:xfrm>
            <a:off x="4038480" y="5226120"/>
            <a:ext cx="3876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  Oliv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533520" y="12193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livia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on teoreetilisel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FSK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aga kasutab 32 tooni laiemas ribas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Väga läbiv tööliik, vahel on vastuvõtt võimalik isegi siis, kui kõrvaga signaali kuulda po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250 hz, 500 hz, or 1 K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uurepärane kaugside ja QRP tööliik. Kiirus on piisavalt aeglane käsitsi teksti sisestamisek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Kasutajate hulk väheneb. Suure ribalaiuse tõttu tekitab pahameelt teistes sageduse kasutajat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3" name="Picture 2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4381560" cy="153360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6"/>
          <p:cNvSpPr/>
          <p:nvPr/>
        </p:nvSpPr>
        <p:spPr>
          <a:xfrm>
            <a:off x="5711040" y="5337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ffffff"/>
                </a:solidFill>
                <a:latin typeface="Times New Roman"/>
              </a:rPr>
              <a:t>Olivia jäl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.  </a:t>
            </a:r>
            <a:r>
              <a:rPr b="1" lang="et-EE" sz="4000" spc="-1" strike="noStrike">
                <a:solidFill>
                  <a:srgbClr val="ff9900"/>
                </a:solidFill>
                <a:latin typeface="Times New Roman"/>
              </a:rPr>
              <a:t>JT65, JT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533520" y="12193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JT65A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kasutab struktuurseid telegramm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Reed-Solomon (63,12) 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veakontrollikood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(ECC)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 j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65-FSK 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modulatsiooni,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.69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ud. </a:t>
            </a: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Algselt EME sidedeks mõeldud. Temaga sarnane on eksperimentaalne JT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eaeaea"/>
                </a:solidFill>
                <a:latin typeface="Arial"/>
              </a:rPr>
              <a:t>Saatmine-vastuvõtmine toimub tsükliliselt. Tsükli pikkus on 1 min, millest 48 sekundit on saade ja 12 sekundit jääb dekodeerimiseks ja ettevalmistamiseks. Saadetakse vaid 13 tähemärk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Ribalai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JT65A 177 Hz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JT9 16 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Plus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uurepärane kaugside ja QRP tööliik. Kogub populaarsust ja seega korrespondente jagub. JT9 oma kitsa ribaga võib konkureerida PSK31-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ffffff"/>
                </a:solidFill>
                <a:latin typeface="Times New Roman"/>
              </a:rPr>
              <a:t>Miinus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Sidede pikk aeg, tagasihoidlik info hulk (võib ka pluss olla </a:t>
            </a:r>
            <a:r>
              <a:rPr b="0" lang="et-E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t-EE" sz="2000" spc="-1" strike="noStrike">
                <a:solidFill>
                  <a:srgbClr val="ffffff"/>
                </a:solidFill>
                <a:latin typeface="Times New Roman"/>
              </a:rPr>
              <a:t>),  piiratud tarkvara vali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04:30Z</dcterms:created>
  <dc:creator>admin</dc:creator>
  <dc:description/>
  <dc:language>en-US</dc:language>
  <cp:lastModifiedBy>Mart</cp:lastModifiedBy>
  <dcterms:modified xsi:type="dcterms:W3CDTF">2015-03-18T19:30:42Z</dcterms:modified>
  <cp:revision>163</cp:revision>
  <dc:subject/>
  <dc:title>Amateur Radio Digital Communications</dc:title>
</cp:coreProperties>
</file>